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wmf" ContentType="image/x-wmf"/>
  <Override PartName="/ppt/media/image15.jpeg" ContentType="image/jpeg"/>
  <Override PartName="/ppt/media/image16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money.wav" ContentType="audio/x-wav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D5001-50A2-46E2-A13F-56E3594C9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E5C10-8C13-4475-90F8-12BCB1521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A0EEC-2D19-4659-871A-5F5C63ECB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EBB99-2D0A-43EE-89DC-DCB65EA3D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FA420-78EA-427B-A029-13B1AC6FF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00526-EEC8-42B1-B994-59FF3D932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D84C9-F4EB-4784-B15B-8F5F614D0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A7E66-4788-4BEC-B69E-FDD52BF76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1F832-E4E3-4976-A566-66D7C65F4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1B582-4CCC-45F1-8B90-9811F7B28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6F380-1D41-47B8-AA55-426374A30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08FED-DE5E-4B33-A16A-93A266522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3A96A-AECC-4302-BCD2-90855F364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2274C-7209-433E-85EC-BA5A6B223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A8B49-7FD3-42B5-B591-E8D5650D0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2D36-D65B-4083-93BC-4559CBE2C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E166-9021-4F5E-9DE8-1FBE4B1DA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85D8-334C-437A-9253-72D1DD05B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BDD0-D6C0-4733-B00C-563CF9C95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E89C-9AAB-4B55-BBD5-F19958871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2F7D-4C96-4E6A-B27F-8AAA0D2A4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0AC4-8918-48EE-B20C-583BF5E1D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880D-5445-4607-BDC3-568BF37B5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59AF-BCEA-4549-98A8-FCA9A8C3B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ABAB-1DDC-4C29-A120-BCDD907D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B576-E3A2-4492-A074-2B5B0F62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A2CE-EA6D-4B31-972E-E2DD27AF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3C503-F4EF-4E63-B1E9-902AD61C5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money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696080" cy="28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NAILED"/>
              </a:rPr>
              <a:t>How to Nail an Interview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MCj03983890000[1]"/>
          <p:cNvPicPr/>
          <p:nvPr/>
        </p:nvPicPr>
        <p:blipFill>
          <a:blip r:embed="rId1"/>
          <a:stretch/>
        </p:blipFill>
        <p:spPr>
          <a:xfrm>
            <a:off x="2971800" y="3505320"/>
            <a:ext cx="335268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one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838080" y="1447920"/>
            <a:ext cx="7239240" cy="441936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784872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alligraph421 BT"/>
              </a:rPr>
              <a:t>What to</a:t>
            </a:r>
            <a:br>
              <a:rPr sz="10000"/>
            </a:br>
            <a:r>
              <a:rPr b="0" lang="en-US" sz="10000" spc="-1" strike="noStrike">
                <a:solidFill>
                  <a:srgbClr val="000000"/>
                </a:solidFill>
                <a:latin typeface="Calligraph421 BT"/>
              </a:rPr>
              <a:t> Say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ligraph421 BT"/>
              </a:rPr>
              <a:t>You</a:t>
            </a:r>
            <a:r>
              <a:rPr b="0" lang="en-US" sz="4400" spc="-1" strike="noStrike">
                <a:solidFill>
                  <a:srgbClr val="000000"/>
                </a:solidFill>
                <a:latin typeface="Calligraph421 BT"/>
              </a:rPr>
              <a:t> are Interviewing </a:t>
            </a:r>
            <a:r>
              <a:rPr b="0" i="1" lang="en-US" sz="4400" spc="-1" strike="noStrike">
                <a:solidFill>
                  <a:srgbClr val="000000"/>
                </a:solidFill>
                <a:latin typeface="Calligraph421 BT"/>
              </a:rPr>
              <a:t>Th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Questions about the comp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somew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ant to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be afraid to ask questions about the comp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ligraph421 BT"/>
              </a:rPr>
              <a:t>Know the Compa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research in advance to find out about the comp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the interviewer know that you know something about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ligraph421 BT"/>
              </a:rPr>
              <a:t>Answering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not always what you say, bu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ou say it. Be professiona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 beforehand answering common questions in intervie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ligraph421 BT"/>
              </a:rPr>
              <a:t>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ll me about yourself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 do you want to leave your current job? (Why did you leave your last job?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are your strengths?  What are your weaknesse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adjectives would you use to describe yourself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do you know about our company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 do you want to work for us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 should I hire you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past accomplishments gave you satisfaction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makes you want to work hard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type of work environment do you like best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do you handle pressure and stress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lain how you overcame a major obstacl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re do you see yourself five (ten or fifteen) years from now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qualifies you for this job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7" dur="10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7"/>
          <p:cNvSpPr/>
          <p:nvPr/>
        </p:nvSpPr>
        <p:spPr>
          <a:xfrm>
            <a:off x="1066680" y="1523880"/>
            <a:ext cx="7010640" cy="403884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alligraph421 BT"/>
              </a:rPr>
              <a:t>The First </a:t>
            </a:r>
            <a:br>
              <a:rPr sz="10000"/>
            </a:br>
            <a:r>
              <a:rPr b="0" lang="en-US" sz="10000" spc="-1" strike="noStrike">
                <a:solidFill>
                  <a:srgbClr val="000000"/>
                </a:solidFill>
                <a:latin typeface="Calligraph421 BT"/>
              </a:rPr>
              <a:t>Impression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ligraph421 BT"/>
              </a:rPr>
              <a:t>What to W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e-cowboy%20before%20the%20formal%20dinner"/>
          <p:cNvPicPr/>
          <p:nvPr/>
        </p:nvPicPr>
        <p:blipFill>
          <a:blip r:embed="rId1"/>
          <a:srcRect l="29429" t="12233" r="27142" b="5365"/>
          <a:stretch/>
        </p:blipFill>
        <p:spPr>
          <a:xfrm>
            <a:off x="3733920" y="1143000"/>
            <a:ext cx="2171520" cy="5486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formal-wear-career-apparel"/>
          <p:cNvPicPr/>
          <p:nvPr/>
        </p:nvPicPr>
        <p:blipFill>
          <a:blip r:embed="rId2"/>
          <a:stretch/>
        </p:blipFill>
        <p:spPr>
          <a:xfrm>
            <a:off x="2895480" y="1600200"/>
            <a:ext cx="4648320" cy="4624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" descr="t97qsx7p"/>
          <p:cNvPicPr/>
          <p:nvPr/>
        </p:nvPicPr>
        <p:blipFill>
          <a:blip r:embed="rId3">
            <a:lum bright="18000"/>
          </a:blip>
          <a:srcRect l="21868" t="0" r="24707" b="0"/>
          <a:stretch/>
        </p:blipFill>
        <p:spPr>
          <a:xfrm>
            <a:off x="3657600" y="1295280"/>
            <a:ext cx="2041560" cy="5105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" descr="tuxedo0003_large"/>
          <p:cNvPicPr/>
          <p:nvPr/>
        </p:nvPicPr>
        <p:blipFill>
          <a:blip r:embed="rId4"/>
          <a:stretch/>
        </p:blipFill>
        <p:spPr>
          <a:xfrm>
            <a:off x="3505320" y="2057400"/>
            <a:ext cx="2295360" cy="44388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8"/>
          <p:cNvSpPr/>
          <p:nvPr/>
        </p:nvSpPr>
        <p:spPr>
          <a:xfrm>
            <a:off x="304920" y="1981080"/>
            <a:ext cx="2057400" cy="28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Ye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o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1" descr="classic%20flower%20blouse"/>
          <p:cNvPicPr/>
          <p:nvPr/>
        </p:nvPicPr>
        <p:blipFill>
          <a:blip r:embed="rId5"/>
          <a:stretch/>
        </p:blipFill>
        <p:spPr>
          <a:xfrm>
            <a:off x="3276720" y="1143000"/>
            <a:ext cx="2979720" cy="5410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imagefixed170pxwx215pxh,53936,en"/>
          <p:cNvPicPr/>
          <p:nvPr/>
        </p:nvPicPr>
        <p:blipFill>
          <a:blip r:embed="rId6"/>
          <a:stretch/>
        </p:blipFill>
        <p:spPr>
          <a:xfrm>
            <a:off x="3048120" y="1523880"/>
            <a:ext cx="3674880" cy="4648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0" descr="suit"/>
          <p:cNvPicPr/>
          <p:nvPr/>
        </p:nvPicPr>
        <p:blipFill>
          <a:blip r:embed="rId7"/>
          <a:stretch/>
        </p:blipFill>
        <p:spPr>
          <a:xfrm>
            <a:off x="2895480" y="1143000"/>
            <a:ext cx="35974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rt &amp; 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basic school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mod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Jeans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ligraph421 BT"/>
              </a:rPr>
              <a:t>What to W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ligraph421 BT"/>
              </a:rPr>
              <a:t>Hygie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9950"/>
          <p:cNvPicPr/>
          <p:nvPr/>
        </p:nvPicPr>
        <p:blipFill>
          <a:blip r:embed="rId1"/>
          <a:stretch/>
        </p:blipFill>
        <p:spPr>
          <a:xfrm>
            <a:off x="2971800" y="1447920"/>
            <a:ext cx="4000680" cy="42955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304920" y="1981080"/>
            <a:ext cx="2057400" cy="28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Ye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o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crazy%20hair"/>
          <p:cNvPicPr/>
          <p:nvPr/>
        </p:nvPicPr>
        <p:blipFill>
          <a:blip r:embed="rId2"/>
          <a:stretch/>
        </p:blipFill>
        <p:spPr>
          <a:xfrm>
            <a:off x="2666880" y="1523880"/>
            <a:ext cx="4896000" cy="4562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16%20stinky"/>
          <p:cNvPicPr/>
          <p:nvPr/>
        </p:nvPicPr>
        <p:blipFill>
          <a:blip r:embed="rId3"/>
          <a:stretch/>
        </p:blipFill>
        <p:spPr>
          <a:xfrm>
            <a:off x="2209680" y="1523880"/>
            <a:ext cx="5915160" cy="4438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" descr="hairstyle"/>
          <p:cNvPicPr/>
          <p:nvPr/>
        </p:nvPicPr>
        <p:blipFill>
          <a:blip r:embed="rId4"/>
          <a:stretch/>
        </p:blipFill>
        <p:spPr>
          <a:xfrm>
            <a:off x="3124080" y="1295280"/>
            <a:ext cx="3579840" cy="5334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4" descr="b30303320"/>
          <p:cNvPicPr/>
          <p:nvPr/>
        </p:nvPicPr>
        <p:blipFill>
          <a:blip r:embed="rId5"/>
          <a:stretch/>
        </p:blipFill>
        <p:spPr>
          <a:xfrm>
            <a:off x="3124080" y="1447920"/>
            <a:ext cx="3705480" cy="4933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6" descr="man-1b"/>
          <p:cNvPicPr/>
          <p:nvPr/>
        </p:nvPicPr>
        <p:blipFill>
          <a:blip r:embed="rId6"/>
          <a:stretch/>
        </p:blipFill>
        <p:spPr>
          <a:xfrm>
            <a:off x="3733920" y="1219320"/>
            <a:ext cx="2755800" cy="5410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8" descr="my%20dirty%20face"/>
          <p:cNvPicPr/>
          <p:nvPr/>
        </p:nvPicPr>
        <p:blipFill>
          <a:blip r:embed="rId7"/>
          <a:stretch/>
        </p:blipFill>
        <p:spPr>
          <a:xfrm>
            <a:off x="2743200" y="1295280"/>
            <a:ext cx="47084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ligraph421 BT"/>
              </a:rPr>
              <a:t>Hygie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your hair neatly combed and done. Nothing too crazy or wil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-up, if worn, should be basic and not gar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smell! Use deodora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 any piercing or cover and tattoos that might make you look unprofess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 Prepa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ive 10 minutes ea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your application already filled out if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ng a resume if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ure you have on you the names and phone numbers of refer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 off your cell ph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bring uninvited guests like parents, loved ones, or p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MCj03223650000[1]"/>
          <p:cNvPicPr/>
          <p:nvPr/>
        </p:nvPicPr>
        <p:blipFill>
          <a:blip r:embed="rId1"/>
          <a:stretch/>
        </p:blipFill>
        <p:spPr>
          <a:xfrm>
            <a:off x="5105520" y="1295280"/>
            <a:ext cx="75384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Inte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king H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dy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ye 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 yourself and say something like “I’m pleased to meet you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attention to the interviewer’s mood—if they are formal, you should be to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to avoid sl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 use any swear word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ak profession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say “like” and “whatever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ak respectfully and at a good lev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2T15:32:17Z</dcterms:created>
  <dc:creator>Megan.Rees</dc:creator>
  <dc:description/>
  <dc:language>en-US</dc:language>
  <cp:lastModifiedBy>Megan Rees</cp:lastModifiedBy>
  <dcterms:modified xsi:type="dcterms:W3CDTF">2012-07-25T21:39:04Z</dcterms:modified>
  <cp:revision>7</cp:revision>
  <dc:subject/>
  <dc:title>How to Nail an Interview</dc:title>
</cp:coreProperties>
</file>